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03B-6A0F-4CCB-9A2A-161EFDAC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24B-1C55-4B90-A1D1-ED115A4C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849-A1A3-458C-9905-764C353D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6A2-D11E-4E59-BB08-A13A0922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EE2F-CBE3-464A-B35B-5DC35F9A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43E4-265B-4BCC-A668-A4029B6D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F6D8-4EA4-404B-8E09-CEDBC209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181C-3213-4345-B0A1-48ABCF66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2DAB-A523-4206-AEF4-45C2E94C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9AC4-EF82-4D7A-B278-5BB74CE5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4F53-1E10-4507-9826-CE0FE7AA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416-3984-474B-BEB4-39ACBE08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3032-7E9F-4B3A-96B5-4C1855D6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DD96-1B1B-4400-AC72-1AFDE600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1AEB-366D-4A0A-8298-9FAA7BB2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68FF-73E1-4127-B074-966313D9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D3B3-0821-4D21-B270-85E23500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B8F-DC4C-4773-B2F5-92D1D413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C8B-81B9-4088-8FDC-7A63506B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A24-A94F-438A-82AA-08410CA9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9B3-C358-4003-B196-EA6FD360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C3C-0FAC-47B2-AF56-608B7A4D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151-FD5D-4373-84A4-6122256F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B36-00A6-48FA-8CEA-1D75841A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935A-461F-474D-AB27-D34FC731BDC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9BF2-FBC7-4804-9B2D-885CF4727E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38188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Propósito#55 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os pronombres, lo, la, los, las (Objeto directo)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4495320"/>
            <a:ext cx="65278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fecha es el 22 de marzo del 20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eta </a:t>
            </a:r>
            <a:br>
              <a:rPr sz="4400"/>
            </a:b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Un regalo que le gustó.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Complet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Compré un regalo para Teresa. ____ compre en la tienda de departamentos Corte Inglés. Compré unos anteojos de sol. A Teresa le gustaron mucho. Ella _____ llevó el toro día cuando fue a la piscina. Ella tiene algunas fotografías con sus anteojos de sol. Su amigo Miguel ____ tomó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6400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304812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5382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eta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es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Invitaste a Juan a la fiest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Invitaste a Alejandr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Compraste los refresco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Preparaste la ensalad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Tomó Pepe las fotografías de la fiesta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4432680" y="3246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area # 5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book activities 16 &amp; 17 pages 62 to 6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259056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invierno o el ver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cate wheter each of the following is associated with el invierno or el veran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Bajan la pist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Esquía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Esquían en el agu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Toman la telesil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Usan una toalla playe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Buce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62720" y="4343400"/>
            <a:ext cx="129528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29564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124080" y="4876920"/>
            <a:ext cx="129564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7467480" y="457200"/>
            <a:ext cx="1143000" cy="990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038480" y="2286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3809880" y="2209680"/>
            <a:ext cx="685800" cy="669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2895480" y="2666880"/>
            <a:ext cx="6858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4648320" y="3733920"/>
            <a:ext cx="685800" cy="669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304920" y="228600"/>
            <a:ext cx="1143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s pronomb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s take a look at page 132 in our text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620120" cy="5867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5867280"/>
            <a:ext cx="594360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676440"/>
            <a:ext cx="7696440" cy="5190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47920" y="5410080"/>
            <a:ext cx="601956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696080" cy="5562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600200" y="5562720"/>
            <a:ext cx="594360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4400" spc="-1" strike="noStrike">
                <a:solidFill>
                  <a:srgbClr val="000000"/>
                </a:solidFill>
                <a:latin typeface="Comic Sans MS"/>
              </a:rPr>
              <a:t>Cómo lo dig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Sí, ten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No, no lo teng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Sigan el modelo (follow the mode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Comic Sans MS"/>
              </a:rPr>
              <a:t>Situación o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4400" spc="-1" strike="noStrike">
                <a:solidFill>
                  <a:srgbClr val="000000"/>
                </a:solidFill>
                <a:latin typeface="Comic Sans MS"/>
              </a:rPr>
              <a:t>Dónde es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El banado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Aquí lo tie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Sigan el mode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Comic Sans MS"/>
              </a:rPr>
              <a:t>Situación o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3581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 compras Lo, la, las, l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076960" cy="51814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447920" y="6172200"/>
            <a:ext cx="632448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4560" y="48006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23600" y="4800600"/>
            <a:ext cx="4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94840" y="48006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5840" y="480060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21:08:11Z</dcterms:created>
  <dc:creator>NYCDOE</dc:creator>
  <dc:description/>
  <dc:language>en-US</dc:language>
  <cp:lastModifiedBy>Helen Zumaeta</cp:lastModifiedBy>
  <dcterms:modified xsi:type="dcterms:W3CDTF">2012-03-27T19:55:51Z</dcterms:modified>
  <cp:revision>10</cp:revision>
  <dc:subject/>
  <dc:title>Propósito#54   Los pronombres, lo, la, los, las (Objeto directo)</dc:title>
</cp:coreProperties>
</file>